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8CC-4047-4D4C-9921-7DBD185B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EF4-B97D-4152-A282-DA315E92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9F1E6-8432-48B6-9A96-CACA22A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D2F69-05B2-4208-A4E4-16BC9B3E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B197A-6A7B-412C-AA48-65640B09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F37CB-7462-42FE-BC16-1CC7CEB2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F62CB-65D9-4939-9F20-5AE79874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31A36-E6A5-4490-9E1E-AC1F68A6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A0AD0-EEE2-4790-8DF3-55A676D5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EFFA8-7A9E-408E-A795-572F1C52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EEF1F-67BE-4EB2-AB79-80ED4EAA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F5E42-424F-4299-82B9-DA58FCCE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D15-4207-4D1F-A2A1-6C55D8CD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E7279-B318-4273-8D04-E72E6212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AFE48-380F-4BD6-A1F1-463137A0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062E4-3F53-4A86-8270-BD9431D6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68AB4-B988-4412-B047-0A50EE1B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8EEA6-5861-4996-9131-90A30F9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9E4D5-5E9A-48F7-BBF2-4C212A7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73D32-6FB0-4878-9719-E53948AE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20BCD-66A1-4F62-8479-626D0BF0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7F082-7C5B-41E6-9AE0-A3E13867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33123-2F19-445A-875B-C0BB75E2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F16-E7AB-49B7-AB57-F69A9F4D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7FE5B-DB23-436C-B53D-3F1109F1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585F4-5034-4B42-B7B4-C489A356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0D6B5-8C99-4EF0-A49D-E7F841F3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C60DE-55F4-4F87-B1E4-AF352496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9DDBD-F3A5-4B88-B762-90D7FA02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54908-96BA-4EA4-9BC5-A5EC6E0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69F06-537C-4F8D-99C5-DDDAF81A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404D5-111B-4FC0-9134-61F5F1F8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3DF58-BDCE-4EE7-8A02-22FD6322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1CCCC-2A24-4F4A-9C50-CA254FF1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340F-65CE-4042-BAC3-10959A9B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4F199-3E9E-4D4A-81AB-52B7E46C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55092-A686-4446-8005-9078143F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0A4FD-62B7-4D47-A586-DB2FA984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0C7B8-4419-4DBC-BC0A-1CC2C2EC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5C87F-2A39-4805-BB63-C6E7D9A1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2FB2A-45F7-4752-8DF2-BA503B27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BFE0A-BA0D-4509-BC28-65250749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492C8-E465-403A-A53D-7B6EA6C3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DC021-3F5C-456C-A1EC-DEF0F3FF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87423-AA87-4A88-B35C-A68731F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41CE-EB3D-4112-88BA-CA71C286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D35D6-FB3E-444B-A21E-D5C59F13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1CA40-B32A-4969-853D-1B9D7BA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5E6A0-E156-4342-8F1A-6C2D228B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AB1F2-C47F-4C8F-8045-77EA33F9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E2077-9BC9-48C3-B78C-DEFCE930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139D-4DBC-4C5B-BBD0-7D4295BD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C2F9-03EC-4451-BD1B-2C155D55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B959-7496-4DE1-A42A-A53FF421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404E-A240-43EC-975F-308F56B6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7906-5D66-42BB-AAC9-96501A21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3A8-192C-4482-83C0-DD3CDB1A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D99B-27EE-4EA9-B129-0198DBD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E57B-8441-4A3B-A957-2BF7C59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546D-2B7B-419E-B13A-70687282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432F-983F-4B11-A85B-C0B3DD7A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73C4-7A12-437C-BDC0-DC2E5265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C60C-8F8C-4347-9439-23310A84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068C-2858-4641-9889-96B23816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DDD3-56C8-4A3B-88B4-186EC5FD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B9B0-2BC9-4A11-AB20-D3519146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D426-B1A8-47D5-8081-8B52B790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C64-A895-4D4F-9093-137C227F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3A1D-2492-4E84-881F-56997FA4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29E1F-6BC1-4294-90EB-34D569B8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B208-D1C2-4074-9D6D-C3AEE08D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9F801-88CC-47B1-BB17-09581587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BEB9-7773-465D-B590-6968B72F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CD4F-9DCC-46DC-80C0-E3690D1A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55A3-1018-4ECC-94BC-A4EE8B8E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6F4F-A910-4872-B32A-5942D313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26D1-1273-406D-B75B-1B062F4A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DF1A-8403-4A53-9C4F-4D057644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830-AE1A-4C37-996D-5433ECDC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34640-B609-4F69-8135-6BACD873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7B4EE-50C3-4AE5-B5C2-FAEC1859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407B-E121-4CB2-B2FB-FE46A38B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0B49-8E2C-4743-9F73-8E6FF9F9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C6ED5-8B0C-47D8-9D6D-01BFEF4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B2481-8F9E-47BB-AD6B-51A0B5BC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187D-BCC2-4C74-B49B-EFD4D08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05D9-EA9F-48BB-B0F8-EF7673D9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3D5B9-3171-4836-BEB7-D0FE80E9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F60B3-521E-4ECF-8DD6-461219DC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46C-E495-475B-A6B8-38B593F0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F3648-F50C-4E7D-942B-9A28E66D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01BC6-90BC-4676-B126-A3362C32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F1B20-B521-4899-932C-9AAEF2A8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F2C6C-CB48-4763-927A-AA50BFE6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E5107-8550-4091-B372-D31EBCB3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DEB63-D25F-4182-B08D-95306A9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DCD0-E79C-46DF-B5EE-7C3685F5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4368-EBB7-402D-BBF6-B87AA18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F4759-6255-4F1B-B3C7-C27B1B6D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A92D-58B7-4DD2-BAEA-A8ED649F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B79-8273-4648-8F3A-5752B1B0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57DD7-EE05-48F2-B2B5-AA49C3F9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741A-14A4-4BCA-9FC6-79C45681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A9E6-760C-41A4-817D-3DE8CAD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C73C5-1ADD-48DA-BEA1-741BE2B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478C-A957-4D34-874B-DF3FC3BD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033D6-EAC8-4819-B128-1F38B5E3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2B577-F064-4725-B05D-1F4861DA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C492E-A513-46B9-92B2-4F0C84BE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59CC6-8C77-47D7-8353-E97FB780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BB3C3-21A5-44E3-A285-7DCCF04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835-9AE4-45CD-9D1C-CDD7DBE8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95C7-DF9C-44BA-ACD8-A025C57F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18352-DEA5-4C41-9616-5FBF2146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CFDD8-3ABD-4100-B21C-16B8FC90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93A0-ABE2-4EA6-ACC0-E25A454B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8DF4C-BE3B-420C-BA13-03D85021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D9BA0-6B38-49F1-B3FA-1C371AB9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A26B8-1D01-4572-9E51-F6B33286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E0FA-9526-4292-831B-F9E8B71A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EE057-300D-4DF3-875F-0C3A3331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55E19-1097-4EE0-817A-EE0CB22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C3C-AF2E-47AB-BD60-3B171C3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27A1C-9AF3-463B-9E36-087A320A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149F5-CF4B-47EE-A52E-304D14B6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0291B-117E-40A2-864D-5171497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FDA5F-B190-413D-9990-14A7C61C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B3519-CEE2-4E0B-AC2A-44E74016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402AA-CE70-4895-A55F-DEA102AA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372AD-955F-41CF-B7F8-B8D424C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AEFC7-4F3B-41B4-84AE-6757B8B8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BF03D-4C8A-4E7A-BAAB-CEE6C828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B312C-DAA6-4C01-B791-6B0073BC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386-2835-4F8E-9244-F6B8ACB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A4F26-62D6-4ECB-862A-C94F44A5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BD920-55F6-4F28-AE5B-272B6557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29BA2-DD74-4B18-8D40-9AF231B8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B1DA9-DAA5-485B-97F4-132D421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2A629-AA59-41C4-BF10-A1665585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A2B28-FBAA-456A-9319-FE42B69C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9D97E-48CC-464C-B6BC-DBCC3CD5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F4157-62A2-4ECD-9F06-56F0A638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0DF8D-20FE-4C83-8D57-5839E6E4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B341F-2568-4EEE-B512-313FA066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3C46-73D6-4CE9-AD55-EE396EB826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89F-DC89-4512-9626-3840ACC64FE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D738-9411-4B94-AB80-C6D09A1309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1694-505E-4153-9074-04A02CD498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2F51-AC7B-481C-B23B-13CA36858E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A6E1-3DFD-4A7C-BE42-3EEADF11E62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3ADE-C9B3-4BE8-AB0D-D3821046E8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910A-5C76-4A81-BF8E-8B2FAADBB3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084F-A232-40A9-9BDE-FBABB48C98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78F-1CD9-47D8-A487-4E42EE72992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1EF8-5714-4E16-8C65-2236AEF327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BE11-C248-4CCA-97D9-51794C10E3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60 Do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j domovin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večnej domov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ž dnes by ísť som chc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verným miesto chyst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drahý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nepríde už nik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aľ, bolesť, tráp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Pánovi česť a chvál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zdám za vykúpen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 večnej domovi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k často túžie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vládne láska č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Otca svoj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poznám, čo je šťast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nemá miesto hrie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, kde smr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stane vládnu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už nik nezomr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 večnej domovi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 Pána uvid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srdcom vďakypln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a jemu poklo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krvou svojou svät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i spásu vydoby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vlasti nebeskej a krásnej mi bránu otvoril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27:29Z</dcterms:modified>
  <cp:revision>23</cp:revision>
  <dc:subject/>
  <dc:title>Je veľký náš Pán, on slávy je Kráľ Nech do všetkých strán  spev vrúcnych znie chvál.</dc:title>
</cp:coreProperties>
</file>